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0B6-7E95-4585-8513-1C88AC49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784A-3944-4334-885F-B12EA289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A6DA-D77A-4ED8-9B7B-A3F06636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EEEC-FEBB-444F-8E62-0BFE271F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9911-8678-4BF1-BEF4-D3EBF597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51C5-96B6-42B1-B918-36B5F3D2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056A-EC53-40DE-AB19-1CCE91FA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A8B4-8E96-4379-A763-459E947B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C8B6-1737-4BA3-8AE1-43CA8FE0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71A9-0C5F-413A-BF6E-AFF22BF4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AE13-F8E0-44D9-9085-95FED001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4207-9E39-4B80-AC3A-B128BC0A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2bd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e4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e4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632B-4AF4-44B9-8A96-0AD2597B77D2}" type="slidenum">
              <a:rPr b="0" lang="en-GB" sz="1400" spc="-1" strike="noStrike">
                <a:solidFill>
                  <a:srgbClr val="3e4b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22880"/>
            <a:ext cx="78408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fr-FR" sz="4000" spc="-1" strike="noStrike">
                <a:solidFill>
                  <a:srgbClr val="e31d18"/>
                </a:solidFill>
                <a:latin typeface="Comic Sans MS"/>
              </a:rPr>
              <a:t>ME</a:t>
            </a:r>
            <a:r>
              <a:rPr b="0" lang="fr-FR" sz="4000" spc="-1" strike="noStrike">
                <a:solidFill>
                  <a:srgbClr val="2c2bdf"/>
                </a:solidFill>
                <a:latin typeface="Comic Sans MS"/>
              </a:rPr>
              <a:t>gaton </a:t>
            </a:r>
            <a:r>
              <a:rPr b="0" lang="fr-FR" sz="4000" spc="-1" strike="noStrike">
                <a:solidFill>
                  <a:srgbClr val="e31d18"/>
                </a:solidFill>
                <a:latin typeface="Comic Sans MS"/>
              </a:rPr>
              <a:t>M</a:t>
            </a:r>
            <a:r>
              <a:rPr b="0" lang="fr-FR" sz="4000" spc="-1" strike="noStrike">
                <a:solidFill>
                  <a:srgbClr val="2c2bdf"/>
                </a:solidFill>
                <a:latin typeface="Comic Sans MS"/>
              </a:rPr>
              <a:t>ass </a:t>
            </a:r>
            <a:r>
              <a:rPr b="0" lang="fr-FR" sz="4000" spc="-1" strike="noStrike">
                <a:solidFill>
                  <a:srgbClr val="e31d18"/>
                </a:solidFill>
                <a:latin typeface="Comic Sans MS"/>
              </a:rPr>
              <a:t>PHYS</a:t>
            </a:r>
            <a:r>
              <a:rPr b="0" lang="fr-FR" sz="4000" spc="-1" strike="noStrike">
                <a:solidFill>
                  <a:srgbClr val="2c2bdf"/>
                </a:solidFill>
                <a:latin typeface="Comic Sans MS"/>
              </a:rPr>
              <a:t>ics Project</a:t>
            </a:r>
            <a:endParaRPr b="0" lang="en-US" sz="40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e4bff"/>
                </a:solidFill>
                <a:latin typeface="Comic Sans MS"/>
              </a:rPr>
              <a:t>Physics Motivation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4bff"/>
                </a:solidFill>
                <a:latin typeface="Comic Sans MS"/>
              </a:rPr>
              <a:t>The Installation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- a Very Large Laborator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- a MegaTon scale Detector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- the Neutrino Beam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4bff"/>
                </a:solidFill>
                <a:latin typeface="Comic Sans MS"/>
              </a:rPr>
              <a:t>Expected physics potentia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4bff"/>
                </a:solidFill>
                <a:latin typeface="Comic Sans MS"/>
              </a:rPr>
              <a:t>Tentative schedule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BB91-826E-433D-AD5A-FE29D37C5FB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457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 possible schedule for a European Lab. at Frejus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1219320"/>
            <a:ext cx="9144000" cy="4321080"/>
            <a:chOff x="0" y="1219320"/>
            <a:chExt cx="9144000" cy="4321080"/>
          </a:xfrm>
        </p:grpSpPr>
        <p:sp>
          <p:nvSpPr>
            <p:cNvPr id="125" name=""/>
            <p:cNvSpPr/>
            <p:nvPr/>
          </p:nvSpPr>
          <p:spPr>
            <a:xfrm>
              <a:off x="0" y="1219320"/>
              <a:ext cx="9144000" cy="4321080"/>
            </a:xfrm>
            <a:prstGeom prst="rect">
              <a:avLst/>
            </a:prstGeom>
            <a:solidFill>
              <a:srgbClr val="ffe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9280" y="1423440"/>
              <a:ext cx="813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Year       2005                      </a:t>
              </a:r>
              <a:r>
                <a:rPr b="0" lang="en-GB" sz="1800" spc="-1" strike="noStrike">
                  <a:solidFill>
                    <a:srgbClr val="0000ff"/>
                  </a:solidFill>
                  <a:latin typeface="Arial"/>
                </a:rPr>
                <a:t>2010</a:t>
              </a: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                        2015                       2020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196056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afety tunnel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35280" y="1960560"/>
              <a:ext cx="13683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08000" y="1960560"/>
              <a:ext cx="136872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Excav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243396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Lab cavity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92360" y="2433960"/>
              <a:ext cx="2592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Excav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3280" y="2433960"/>
              <a:ext cx="576360" cy="307080"/>
            </a:xfrm>
            <a:prstGeom prst="rect">
              <a:avLst/>
            </a:prstGeom>
            <a:solidFill>
              <a:srgbClr val="713e3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e585"/>
                  </a:solidFill>
                  <a:latin typeface="Arial"/>
                </a:rPr>
                <a:t>P.S</a:t>
              </a:r>
              <a:endParaRPr b="0" lang="en-US" sz="1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9640" y="2433960"/>
              <a:ext cx="129708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tudy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2905920"/>
              <a:ext cx="16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detector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5280" y="2905920"/>
              <a:ext cx="143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PM R&amp;D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92360" y="2905920"/>
              <a:ext cx="2808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PMT prod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344592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Det.prepar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64000" y="3380400"/>
              <a:ext cx="2016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Install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92360" y="3380400"/>
              <a:ext cx="1871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Outside lab.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3986280"/>
              <a:ext cx="19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Non-acc.physics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00720" y="3919320"/>
              <a:ext cx="284328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P-decay, S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0920" y="45266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uper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80000" y="4526640"/>
              <a:ext cx="287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Constr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59640" y="4526640"/>
              <a:ext cx="248436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Super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4000" y="49996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beta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59640" y="4999680"/>
              <a:ext cx="248436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Beta 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35280" y="3380400"/>
              <a:ext cx="18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64000" y="2433960"/>
              <a:ext cx="0" cy="337680"/>
            </a:xfrm>
            <a:prstGeom prst="line">
              <a:avLst/>
            </a:prstGeom>
            <a:ln w="936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0000" y="4999680"/>
              <a:ext cx="287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Constr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48000" y="1826640"/>
              <a:ext cx="0" cy="3713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352680" y="5715000"/>
            <a:ext cx="3384720" cy="916920"/>
          </a:xfrm>
          <a:prstGeom prst="rect">
            <a:avLst/>
          </a:prstGeom>
          <a:solidFill>
            <a:srgbClr val="ffe58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ecision for cavity digging decision for SPL  construction decision for EURISOL site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DE33-5F11-4542-94D4-E572973B5B33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Specific </a:t>
            </a:r>
            <a:r>
              <a:rPr b="1" lang="en-US" sz="2400" spc="-1" strike="noStrike">
                <a:solidFill>
                  <a:srgbClr val="e31d18"/>
                </a:solidFill>
                <a:latin typeface="Times New Roman"/>
              </a:rPr>
              <a:t>requests</a:t>
            </a: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  from the </a:t>
            </a:r>
            <a:r>
              <a:rPr b="1" lang="en-US" sz="2400" spc="-1" strike="noStrike">
                <a:solidFill>
                  <a:srgbClr val="e31d18"/>
                </a:solidFill>
                <a:latin typeface="Times New Roman"/>
              </a:rPr>
              <a:t>MEMPHYS</a:t>
            </a: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 Group</a:t>
            </a:r>
            <a:br>
              <a:rPr sz="2400"/>
            </a:b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to the European </a:t>
            </a:r>
            <a:r>
              <a:rPr b="1" lang="en-US" sz="2400" spc="-1" strike="noStrike">
                <a:solidFill>
                  <a:srgbClr val="e31d18"/>
                </a:solidFill>
                <a:latin typeface="Times New Roman"/>
              </a:rPr>
              <a:t>FP7</a:t>
            </a: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 Network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1828800"/>
            <a:ext cx="6400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1d18"/>
                </a:solidFill>
                <a:latin typeface="Times New Roman"/>
              </a:rPr>
              <a:t>Networking activities</a:t>
            </a:r>
            <a:r>
              <a:rPr b="0" lang="en-US" sz="2400" spc="-1" strike="noStrike">
                <a:solidFill>
                  <a:srgbClr val="3e4bff"/>
                </a:solidFill>
                <a:latin typeface="Times New Roman"/>
              </a:rPr>
              <a:t> concerning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A1)  the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Physics potential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of Large Deep Underground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Experiments in both non- accelerator and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accelerator sectors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A2) the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Underground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Laboratories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for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“Mega” detectors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: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best strategies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for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 excavation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, access and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equipments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(ventilation, air-conditioning, power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supply, etc.)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A3) the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Safety optimisation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in Very Large Underground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Facilities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9F71-942D-4932-B5A3-8E1BB6C0D52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838080"/>
            <a:ext cx="7772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Times New Roman"/>
              </a:rPr>
              <a:t>B) Joint research activities</a:t>
            </a:r>
            <a:r>
              <a:rPr b="0" lang="en-GB" sz="2400" spc="-1" strike="noStrike">
                <a:solidFill>
                  <a:srgbClr val="3e4bff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B1) Development, in close connection with industry (Photonis),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of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cheap photo-detectors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optimized for covering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large areas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nd suitable to detect Cerenkov light (visible + UV) with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high efficiency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)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vacuum photo-tube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-”standard” (with dynodes) PMT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- “hybrid” (with PIN or APD diodes) HPD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b)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gaseous photo-tubes,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“wall paper” shaped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- with CsI photo-cathode (Ultra-Violet region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- with bi-alcali photo-cathode (visible region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B2) Associated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multiplexed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power supply and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integrated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electronic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99AD-A578-4480-A41D-B2780785B5A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762120"/>
            <a:ext cx="77724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Times New Roman"/>
              </a:rPr>
              <a:t>C)</a:t>
            </a:r>
            <a:r>
              <a:rPr b="0" lang="en-GB" sz="2400" spc="-1" strike="noStrike">
                <a:solidFill>
                  <a:srgbClr val="3e4b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e31d18"/>
                </a:solidFill>
                <a:latin typeface="Times New Roman"/>
              </a:rPr>
              <a:t>Design Studies</a:t>
            </a:r>
            <a:r>
              <a:rPr b="0" lang="en-GB" sz="2400" spc="-1" strike="noStrike">
                <a:solidFill>
                  <a:srgbClr val="3e4bff"/>
                </a:solidFill>
                <a:latin typeface="Times New Roman"/>
              </a:rPr>
              <a:t> concerning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the excavation of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3 to 5 “shafts”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of about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250000 m3 each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in the central region of the Fréjus Tunnel, the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associated equipments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and the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mechanics of the detector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modules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) precise “in situ” investigation of the rock quality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parameter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b) optimisation of the shafts shape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c) optimisation (choice) of the type of local access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d) definition of the required equipments : ventilation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nd air-conditioning, water purification “factory”,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electric power supply, etc.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e) definition of the best solution for the water containment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nd for the photo-detectors support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2300-342E-4266-B90D-FE0E061B6A6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533520"/>
            <a:ext cx="7315200" cy="81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inancial contributions asked to FP7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(as considered from the MEMPHYS project point of view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≈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100 K€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for the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Networking Activitie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≈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350 K€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for the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Joint Research Activities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(R&amp;D for Photodetectors and electronics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        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(total cost ≈ 2 M€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≈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5 M€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for the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Design Study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of the Laboratory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   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(and the mechanics of the detector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                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(total cost ≈ 25 M€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DA3-95E8-462A-A9A0-D84A96946FF1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7162920" y="838080"/>
            <a:ext cx="1525320" cy="2825640"/>
            <a:chOff x="7162920" y="838080"/>
            <a:chExt cx="1525320" cy="2825640"/>
          </a:xfrm>
        </p:grpSpPr>
        <p:sp>
          <p:nvSpPr>
            <p:cNvPr id="44" name=""/>
            <p:cNvSpPr/>
            <p:nvPr/>
          </p:nvSpPr>
          <p:spPr>
            <a:xfrm>
              <a:off x="7162920" y="838080"/>
              <a:ext cx="152532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173720" y="150624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6553080" y="990720"/>
            <a:ext cx="1525680" cy="2825640"/>
            <a:chOff x="6553080" y="990720"/>
            <a:chExt cx="1525680" cy="2825640"/>
          </a:xfrm>
        </p:grpSpPr>
        <p:sp>
          <p:nvSpPr>
            <p:cNvPr id="47" name=""/>
            <p:cNvSpPr/>
            <p:nvPr/>
          </p:nvSpPr>
          <p:spPr>
            <a:xfrm>
              <a:off x="6553080" y="9907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564240" y="1658880"/>
              <a:ext cx="150192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The </a:t>
            </a:r>
            <a:r>
              <a:rPr b="0" lang="en-GB" sz="3200" spc="-1" strike="noStrike">
                <a:solidFill>
                  <a:srgbClr val="e31d18"/>
                </a:solidFill>
                <a:latin typeface="Comic Sans MS"/>
              </a:rPr>
              <a:t>MEMPHYS</a:t>
            </a: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 Project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24920" y="3451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943600" y="1143000"/>
            <a:ext cx="1555920" cy="2825640"/>
            <a:chOff x="5943600" y="1143000"/>
            <a:chExt cx="1555920" cy="2825640"/>
          </a:xfrm>
        </p:grpSpPr>
        <p:sp>
          <p:nvSpPr>
            <p:cNvPr id="52" name=""/>
            <p:cNvSpPr/>
            <p:nvPr/>
          </p:nvSpPr>
          <p:spPr>
            <a:xfrm>
              <a:off x="5962680" y="114300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73840" y="181152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42240" y="180504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943600" y="1793880"/>
              <a:ext cx="1555920" cy="598680"/>
            </a:xfrm>
            <a:prstGeom prst="ellipse">
              <a:avLst/>
            </a:prstGeom>
            <a:noFill/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029200" y="1219320"/>
            <a:ext cx="1555920" cy="2825640"/>
            <a:chOff x="5029200" y="1219320"/>
            <a:chExt cx="1555920" cy="2825640"/>
          </a:xfrm>
        </p:grpSpPr>
        <p:sp>
          <p:nvSpPr>
            <p:cNvPr id="57" name=""/>
            <p:cNvSpPr/>
            <p:nvPr/>
          </p:nvSpPr>
          <p:spPr>
            <a:xfrm>
              <a:off x="5048280" y="12193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59440" y="188784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127840" y="188136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29200" y="1870200"/>
              <a:ext cx="1555920" cy="598680"/>
            </a:xfrm>
            <a:prstGeom prst="ellipse">
              <a:avLst/>
            </a:prstGeom>
            <a:noFill/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724200" y="1371600"/>
            <a:ext cx="2241720" cy="2825640"/>
            <a:chOff x="3724200" y="1371600"/>
            <a:chExt cx="2241720" cy="2825640"/>
          </a:xfrm>
        </p:grpSpPr>
        <p:sp>
          <p:nvSpPr>
            <p:cNvPr id="62" name=""/>
            <p:cNvSpPr/>
            <p:nvPr/>
          </p:nvSpPr>
          <p:spPr>
            <a:xfrm>
              <a:off x="4145040" y="203976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3724200" y="1371600"/>
              <a:ext cx="2241720" cy="2792520"/>
              <a:chOff x="3724200" y="1371600"/>
              <a:chExt cx="2241720" cy="2792520"/>
            </a:xfrm>
          </p:grpSpPr>
          <p:sp>
            <p:nvSpPr>
              <p:cNvPr id="64" name=""/>
              <p:cNvSpPr/>
              <p:nvPr/>
            </p:nvSpPr>
            <p:spPr>
              <a:xfrm>
                <a:off x="4133880" y="1371600"/>
                <a:ext cx="1525320" cy="1884600"/>
              </a:xfrm>
              <a:prstGeom prst="ellipse">
                <a:avLst/>
              </a:prstGeom>
              <a:solidFill>
                <a:srgbClr val="ffff99"/>
              </a:solidFill>
              <a:ln w="38160">
                <a:solidFill>
                  <a:srgbClr val="5c1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213080" y="2033640"/>
                <a:ext cx="1363680" cy="213048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4265640" y="2261880"/>
                <a:ext cx="1268280" cy="41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933720" y="1609920"/>
                <a:ext cx="203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33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flipV="1">
                <a:off x="4238280" y="2428920"/>
                <a:ext cx="28440" cy="154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724200" y="2946600"/>
                <a:ext cx="203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114800" y="2022480"/>
                <a:ext cx="1555560" cy="598680"/>
              </a:xfrm>
              <a:prstGeom prst="ellipse">
                <a:avLst/>
              </a:prstGeom>
              <a:noFill/>
              <a:ln w="38160">
                <a:solidFill>
                  <a:srgbClr val="5c1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301680" y="990720"/>
            <a:ext cx="4465440" cy="4792680"/>
            <a:chOff x="301680" y="990720"/>
            <a:chExt cx="4465440" cy="4792680"/>
          </a:xfrm>
        </p:grpSpPr>
        <p:pic>
          <p:nvPicPr>
            <p:cNvPr id="72" name="" descr=""/>
            <p:cNvPicPr/>
            <p:nvPr/>
          </p:nvPicPr>
          <p:blipFill>
            <a:blip r:embed="rId1"/>
            <a:srcRect l="26492" t="13348" r="32464" b="3039"/>
            <a:stretch/>
          </p:blipFill>
          <p:spPr>
            <a:xfrm>
              <a:off x="866520" y="990720"/>
              <a:ext cx="3143160" cy="4326120"/>
            </a:xfrm>
            <a:prstGeom prst="rect">
              <a:avLst/>
            </a:prstGeom>
            <a:ln w="19080">
              <a:solidFill>
                <a:srgbClr val="ff0c14"/>
              </a:solidFill>
              <a:miter/>
            </a:ln>
          </p:spPr>
        </p:pic>
        <p:sp>
          <p:nvSpPr>
            <p:cNvPr id="73" name=""/>
            <p:cNvSpPr/>
            <p:nvPr/>
          </p:nvSpPr>
          <p:spPr>
            <a:xfrm>
              <a:off x="301680" y="4581720"/>
              <a:ext cx="227124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Fréjus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09720" y="482292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86200" y="1825920"/>
              <a:ext cx="218160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CERN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54040" y="203868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03080" y="2271960"/>
              <a:ext cx="1104840" cy="263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42120" y="3203640"/>
              <a:ext cx="269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130km</a:t>
              </a:r>
              <a:endParaRPr b="0" lang="en-US" sz="32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8080" y="5265720"/>
              <a:ext cx="1839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33200" y="5253120"/>
              <a:ext cx="28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e31d18"/>
                  </a:solidFill>
                  <a:latin typeface="Comic Sans MS"/>
                </a:rPr>
                <a:t>4800mwe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066680" y="563868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xcavation engineering pre-study has been done for 5 shafts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411480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</a:rPr>
              <a:t>Water Cerenkov modules at Fréju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038120" y="5028840"/>
            <a:ext cx="6858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4038120" y="5029200"/>
            <a:ext cx="7621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4038480" y="4876560"/>
            <a:ext cx="320040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14800" y="4724280"/>
            <a:ext cx="4343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CERN to Fréjus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Neutrino Super-beam and Beta-beam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DB5A-E7C6-4122-B96A-8EC40109950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c2bdf"/>
                </a:solidFill>
                <a:latin typeface="Comic Sans MS"/>
              </a:rPr>
              <a:t>Physics Motivations</a:t>
            </a:r>
            <a:endParaRPr b="0" lang="en-US" sz="36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Nucleon Deca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uper Novae Neutrinos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       </a:t>
            </a: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burst &amp; relic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olar &amp; Atmospheric Neutrino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Neutrinos from Accelerator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Super Beam, Beta Beam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e4b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nd also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3e4b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Dark Matter (WIMP) indirect detection, High energy neutrinos,…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DEED-4F4D-4EB2-BEF0-E5A1069367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c2bdf"/>
                </a:solidFill>
                <a:latin typeface="Comic Sans MS"/>
              </a:rPr>
              <a:t>A Very Large Laboratory</a:t>
            </a:r>
            <a:endParaRPr b="0" lang="en-US" sz="40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1040" y="1386000"/>
            <a:ext cx="8437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In the middle of the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Fréjus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tunnel at 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depth 4800 m.w.e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(where the quality of the rock is the best !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 preliminary investigation shows the feasibility of excavating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up to five shafts of about 250,000 m</a:t>
            </a:r>
            <a:r>
              <a:rPr b="0" lang="en-GB" sz="2400" spc="-1" strike="noStrike" baseline="30000">
                <a:solidFill>
                  <a:srgbClr val="e31d18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 each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343400" y="3429000"/>
            <a:ext cx="4495680" cy="3114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533520" y="3657600"/>
            <a:ext cx="3124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Estimated </a:t>
            </a:r>
            <a:r>
              <a:rPr b="0" lang="en-GB" sz="2000" spc="-1" strike="noStrike">
                <a:solidFill>
                  <a:srgbClr val="e31d18"/>
                </a:solidFill>
                <a:latin typeface="Comic Sans MS"/>
              </a:rPr>
              <a:t>cost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≈ </a:t>
            </a:r>
            <a:r>
              <a:rPr b="0" lang="en-GB" sz="2000" spc="-1" strike="noStrike">
                <a:solidFill>
                  <a:srgbClr val="e31d18"/>
                </a:solidFill>
                <a:latin typeface="Comic Sans MS"/>
              </a:rPr>
              <a:t>80 M€ x Nb of shaft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C33D-F34D-4762-AE80-DAED4C0B00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A MegaTon scale Detector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3 to 4 Water Cerenkov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modules ( = 20 x Super K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≈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500kT fiducial mass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) equipped with a large number of Photodetectors (eg. 250,000 PMTs 12”)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very well proved and robust technique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which provided already remarkable physical results mainly in Nucleon Decay and Neutrino Physics and Astrophysic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6459-C67E-4521-A4B2-0084393FEE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54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Very intense 300</a:t>
            </a:r>
            <a:r>
              <a:rPr b="0" lang="en-US" sz="3200" spc="-1" strike="noStrike">
                <a:solidFill>
                  <a:srgbClr val="2c2bdf"/>
                </a:solidFill>
                <a:latin typeface="Comic Sans MS"/>
              </a:rPr>
              <a:t>÷400 MeV</a:t>
            </a: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 Neutrino Beams from CERN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uper Beam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based on 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4MW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Proton Driver (eg. SPL) :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and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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from pion deca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Beta Beam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(possibly in connection with the EURISOL project)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and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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from heavy ions decay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e4b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E633-5A60-4F6F-B36F-07B023B91B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2598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c2bdf"/>
                </a:solidFill>
                <a:latin typeface="Comic Sans MS"/>
              </a:rPr>
              <a:t>Main Physics potential</a:t>
            </a:r>
            <a:br>
              <a:rPr sz="3200"/>
            </a:br>
            <a:r>
              <a:rPr b="0" lang="en-GB" sz="2400" spc="-1" strike="noStrike">
                <a:solidFill>
                  <a:srgbClr val="e30000"/>
                </a:solidFill>
                <a:latin typeface="Comic Sans MS"/>
              </a:rPr>
              <a:t>A)</a:t>
            </a:r>
            <a:r>
              <a:rPr b="1" lang="en-GB" sz="2400" spc="-1" strike="noStrike">
                <a:solidFill>
                  <a:srgbClr val="e3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e30000"/>
                </a:solidFill>
                <a:latin typeface="Comic Sans MS"/>
              </a:rPr>
              <a:t>non accelerator physics</a:t>
            </a:r>
            <a:br>
              <a:rPr sz="2800"/>
            </a:br>
            <a:endParaRPr b="0" lang="en-US" sz="2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-9216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Nucleon decay</a:t>
            </a:r>
            <a:r>
              <a:rPr b="0" lang="en-GB" sz="2400" spc="-1" strike="noStrike" baseline="30000">
                <a:solidFill>
                  <a:srgbClr val="3e4b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-    up to </a:t>
            </a:r>
            <a:r>
              <a:rPr b="0" lang="ja-JP" sz="2000" spc="-1" strike="noStrike">
                <a:solidFill>
                  <a:srgbClr val="e31d18"/>
                </a:solidFill>
                <a:latin typeface="Arial"/>
              </a:rPr>
              <a:t>～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10</a:t>
            </a:r>
            <a:r>
              <a:rPr b="0" lang="en-GB" sz="2000" spc="-1" strike="noStrike" baseline="30000">
                <a:solidFill>
                  <a:srgbClr val="e31d18"/>
                </a:solidFill>
                <a:latin typeface="Arial"/>
              </a:rPr>
              <a:t>35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yrs (</a:t>
            </a:r>
            <a:r>
              <a:rPr b="1" lang="en-GB" sz="2000" spc="-1" strike="noStrike">
                <a:solidFill>
                  <a:srgbClr val="e31d18"/>
                </a:solidFill>
                <a:latin typeface="Arial"/>
              </a:rPr>
              <a:t>p→e</a:t>
            </a:r>
            <a:r>
              <a:rPr b="1" lang="en-GB" sz="2000" spc="-1" strike="noStrike" baseline="30000">
                <a:solidFill>
                  <a:srgbClr val="e31d18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e31d18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 baseline="30000">
                <a:solidFill>
                  <a:srgbClr val="e31d18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    few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10</a:t>
            </a:r>
            <a:r>
              <a:rPr b="0" lang="en-GB" sz="2000" spc="-1" strike="noStrike" baseline="30000">
                <a:solidFill>
                  <a:srgbClr val="e31d18"/>
                </a:solidFill>
                <a:latin typeface="Arial"/>
              </a:rPr>
              <a:t>34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yrs (</a:t>
            </a:r>
            <a:r>
              <a:rPr b="1" lang="en-GB" sz="2000" spc="-1" strike="noStrike">
                <a:solidFill>
                  <a:srgbClr val="e31d18"/>
                </a:solidFill>
                <a:latin typeface="Arial"/>
              </a:rPr>
              <a:t>p→</a:t>
            </a:r>
            <a:r>
              <a:rPr b="1" lang="en-GB" sz="2000" spc="-1" strike="noStrike">
                <a:solidFill>
                  <a:srgbClr val="e31d18"/>
                </a:solidFill>
                <a:latin typeface="Symbol"/>
                <a:ea typeface="Symbol"/>
              </a:rPr>
              <a:t></a:t>
            </a:r>
            <a:r>
              <a:rPr b="1" lang="en-GB" sz="2000" spc="-1" strike="noStrike">
                <a:solidFill>
                  <a:srgbClr val="e31d18"/>
                </a:solidFill>
                <a:latin typeface="Arial"/>
              </a:rPr>
              <a:t>K</a:t>
            </a:r>
            <a:r>
              <a:rPr b="1" lang="en-GB" sz="2000" spc="-1" strike="noStrike" baseline="30000">
                <a:solidFill>
                  <a:srgbClr val="e31d18"/>
                </a:solidFill>
                <a:latin typeface="Arial"/>
              </a:rPr>
              <a:t>+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) </a:t>
            </a: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with a detection threshold below 6MeV </a:t>
            </a: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499"/>
              </a:spcBef>
              <a:buClr>
                <a:srgbClr val="e31d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Neutrino bursts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from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Super-Novae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explosion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-533520">
              <a:lnSpc>
                <a:spcPct val="90000"/>
              </a:lnSpc>
              <a:spcBef>
                <a:spcPts val="451"/>
              </a:spcBef>
              <a:buClr>
                <a:srgbClr val="e31d1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150,000 events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from SN at 10kpc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-533520">
              <a:lnSpc>
                <a:spcPct val="90000"/>
              </a:lnSpc>
              <a:spcBef>
                <a:spcPts val="451"/>
              </a:spcBef>
              <a:buClr>
                <a:srgbClr val="e31d1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50 events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from Andromeda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499"/>
              </a:spcBef>
              <a:buClr>
                <a:srgbClr val="e31d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Relic Neutrinos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from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past Super-Novae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explosion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-533520">
              <a:lnSpc>
                <a:spcPct val="90000"/>
              </a:lnSpc>
              <a:spcBef>
                <a:spcPts val="451"/>
              </a:spcBef>
              <a:buClr>
                <a:srgbClr val="e31d1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250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events/10y/0.5Mt   (with </a:t>
            </a: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pur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water)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-533520">
              <a:lnSpc>
                <a:spcPct val="90000"/>
              </a:lnSpc>
              <a:spcBef>
                <a:spcPts val="451"/>
              </a:spcBef>
              <a:buClr>
                <a:srgbClr val="e31d1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2500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events/10y/0.5Mt (with </a:t>
            </a: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Gd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loaded water)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F995-2E88-418E-840A-25CF2BAA11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18676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c2bdf"/>
                </a:solidFill>
                <a:latin typeface="Comic Sans MS"/>
              </a:rPr>
              <a:t>Main Physics potential </a:t>
            </a:r>
            <a:r>
              <a:rPr b="0" lang="en-GB" sz="2000" spc="-1" strike="noStrike">
                <a:solidFill>
                  <a:srgbClr val="2c2bdf"/>
                </a:solidFill>
                <a:latin typeface="Comic Sans MS"/>
              </a:rPr>
              <a:t>(continued)</a:t>
            </a:r>
            <a:br>
              <a:rPr sz="4800"/>
            </a:br>
            <a:r>
              <a:rPr b="0" lang="en-GB" sz="2400" spc="-1" strike="noStrike">
                <a:solidFill>
                  <a:srgbClr val="e30000"/>
                </a:solidFill>
                <a:latin typeface="Comic Sans MS"/>
              </a:rPr>
              <a:t>B)</a:t>
            </a:r>
            <a:r>
              <a:rPr b="1" lang="en-GB" sz="2400" spc="-1" strike="noStrike">
                <a:solidFill>
                  <a:srgbClr val="e3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e30000"/>
                </a:solidFill>
                <a:latin typeface="Comic Sans MS"/>
              </a:rPr>
              <a:t>accelerator physics</a:t>
            </a:r>
            <a:endParaRPr b="0" lang="en-US" sz="2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PMNS matrix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parameters measurement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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13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&lt; 0.7°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@90%CL (</a:t>
            </a:r>
            <a:r>
              <a:rPr b="0" lang="en-GB" sz="24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beam 2.5Mt.y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-&gt;  for 40°&lt;|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CP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|&lt;140°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: 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CP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violation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discovery @ &gt; 3</a:t>
            </a:r>
            <a:r>
              <a:rPr b="0" lang="en-GB" sz="2400" spc="-1" strike="noStrike">
                <a:solidFill>
                  <a:srgbClr val="3e4bff"/>
                </a:solidFill>
                <a:latin typeface="Symbol"/>
                <a:ea typeface="Symbol"/>
              </a:rPr>
              <a:t>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( at </a:t>
            </a:r>
            <a:r>
              <a:rPr b="0" lang="en-GB" sz="2000" spc="-1" strike="noStrike">
                <a:solidFill>
                  <a:srgbClr val="3e4bff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3e4bff"/>
                </a:solidFill>
                <a:latin typeface="Arial"/>
              </a:rPr>
              <a:t>13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= 1° and 10yrs of Beta Beam and Super Beam 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F9B1-CC2D-4CC5-9D53-4F26556B220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54200" y="3571920"/>
            <a:ext cx="0" cy="865080"/>
          </a:xfrm>
          <a:prstGeom prst="line">
            <a:avLst/>
          </a:prstGeom>
          <a:ln w="9360">
            <a:solidFill>
              <a:srgbClr val="5c1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98560" y="2347920"/>
            <a:ext cx="7488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3e4b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3e4bff"/>
                </a:solidFill>
                <a:latin typeface="Comic Sans MS"/>
              </a:rPr>
              <a:t>SUPERBEAM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           </a:t>
            </a:r>
            <a:r>
              <a:rPr b="1" lang="en-GB" sz="2400" spc="-1" strike="noStrike">
                <a:solidFill>
                  <a:srgbClr val="3e4bff"/>
                </a:solidFill>
                <a:latin typeface="Comic Sans MS"/>
              </a:rPr>
              <a:t>BETABEA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→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"/>
              </a:rPr>
              <a:t>e 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                     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"/>
              </a:rPr>
              <a:t>e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→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"/>
              </a:rPr>
              <a:t>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→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                      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→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e4b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762120"/>
            <a:ext cx="77407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Superbeam + beta beam together</a:t>
            </a:r>
            <a:endParaRPr b="0" lang="en-US" sz="3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3120" y="4437000"/>
            <a:ext cx="28908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54200" y="4437000"/>
            <a:ext cx="21600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81840" y="4437000"/>
            <a:ext cx="21564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18200" y="4437000"/>
            <a:ext cx="21600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78200" y="3645000"/>
            <a:ext cx="502920" cy="576000"/>
          </a:xfrm>
          <a:prstGeom prst="upDownArrow">
            <a:avLst>
              <a:gd name="adj1" fmla="val 50000"/>
              <a:gd name="adj2" fmla="val 22800"/>
            </a:avLst>
          </a:prstGeom>
          <a:solidFill>
            <a:srgbClr val="0000ff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86560" y="3645000"/>
            <a:ext cx="557280" cy="576000"/>
          </a:xfrm>
          <a:prstGeom prst="upDownArrow">
            <a:avLst>
              <a:gd name="adj1" fmla="val 50000"/>
              <a:gd name="adj2" fmla="val 20576"/>
            </a:avLst>
          </a:prstGeom>
          <a:solidFill>
            <a:srgbClr val="0000ff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2200" y="4579920"/>
            <a:ext cx="1944720" cy="287280"/>
          </a:xfrm>
          <a:prstGeom prst="leftRightArrow">
            <a:avLst>
              <a:gd name="adj1" fmla="val 50000"/>
              <a:gd name="adj2" fmla="val 134762"/>
            </a:avLst>
          </a:prstGeom>
          <a:solidFill>
            <a:srgbClr val="cc0000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2200" y="3139920"/>
            <a:ext cx="1944720" cy="287640"/>
          </a:xfrm>
          <a:prstGeom prst="leftRightArrow">
            <a:avLst>
              <a:gd name="adj1" fmla="val 50000"/>
              <a:gd name="adj2" fmla="val 134593"/>
            </a:avLst>
          </a:prstGeom>
          <a:solidFill>
            <a:srgbClr val="cc0000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4057800">
            <a:off x="4377600" y="2527200"/>
            <a:ext cx="211320" cy="3024360"/>
          </a:xfrm>
          <a:prstGeom prst="upDownArrow">
            <a:avLst>
              <a:gd name="adj1" fmla="val 50000"/>
              <a:gd name="adj2" fmla="val 284910"/>
            </a:avLst>
          </a:prstGeom>
          <a:solidFill>
            <a:srgbClr val="990099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516800">
            <a:off x="2970360" y="4000320"/>
            <a:ext cx="2989080" cy="180720"/>
          </a:xfrm>
          <a:prstGeom prst="leftRightArrow">
            <a:avLst>
              <a:gd name="adj1" fmla="val 50000"/>
              <a:gd name="adj2" fmla="val 329265"/>
            </a:avLst>
          </a:prstGeom>
          <a:solidFill>
            <a:srgbClr val="990099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46200" y="5156280"/>
            <a:ext cx="6264360" cy="703800"/>
          </a:xfrm>
          <a:prstGeom prst="rect">
            <a:avLst/>
          </a:prstGeom>
          <a:noFill/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2 ways of testing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P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CPT 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: redundancy and check of systematic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1989000"/>
            <a:ext cx="1873440" cy="1015920"/>
          </a:xfrm>
          <a:prstGeom prst="rect">
            <a:avLst/>
          </a:prstGeom>
          <a:solidFill>
            <a:srgbClr val="ebf2ac">
              <a:alpha val="55000"/>
            </a:srgbClr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e4bff"/>
                </a:solidFill>
                <a:latin typeface="Arial"/>
              </a:rPr>
              <a:t>2 beams</a:t>
            </a:r>
            <a:r>
              <a:rPr b="1" lang="en-GB" sz="1800" spc="-1" strike="noStrike">
                <a:solidFill>
                  <a:srgbClr val="3e4b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Arial"/>
              </a:rPr>
              <a:t>1 detector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260640" y="2994120"/>
            <a:ext cx="22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2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332280" y="4289400"/>
            <a:ext cx="22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8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84720" y="2995560"/>
            <a:ext cx="22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5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84720" y="4289400"/>
            <a:ext cx="22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5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35040" y="2717640"/>
            <a:ext cx="196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pure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2600" y="2717640"/>
            <a:ext cx="32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flavours + K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214560" y="3730680"/>
            <a:ext cx="1983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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</a:t>
            </a:r>
            <a:r>
              <a:rPr b="0" lang="en-GB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1386-AAF4-4F84-B5CF-0D279B5618B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22:17:48Z</dcterms:created>
  <dc:creator>Luigi Mosca</dc:creator>
  <dc:description/>
  <dc:language>en-US</dc:language>
  <cp:lastModifiedBy>J.E Campagne</cp:lastModifiedBy>
  <dcterms:modified xsi:type="dcterms:W3CDTF">2005-11-14T08:44:06Z</dcterms:modified>
  <cp:revision>32</cp:revision>
  <dc:subject/>
  <dc:title>Présentation PowerPoint</dc:title>
</cp:coreProperties>
</file>